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GLAS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4F4-B6D4-4D1D-A1AC-42FF4347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B95E-62C0-4FF7-9ED2-2F5234B6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B67-5BCA-4566-8DC2-EB752477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DF32-9224-4B8B-BB17-BEB6B3A6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E00-F26A-40CA-A07E-07D52373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3398-C058-494C-83E3-45F3049C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22A-8E37-4199-99FC-CAD2D792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FFCB-8D2B-4D76-8956-07F0B209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76E-5072-461D-8FBE-9C7BBFF5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010F-69EA-4F0B-B3C5-2092B5CE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9A5E-B5B1-43C2-9E53-D3D29008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9398-2A68-416C-9137-B9DEAF8D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E0B2-793B-4644-861A-F4D5018CA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s and Volu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68360" y="1916280"/>
                <a:ext cx="20160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203640" y="1916280"/>
                <a:ext cx="25797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351480" y="2166840"/>
                <a:ext cx="13352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23720" y="3086280"/>
                <a:ext cx="21052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411360" y="3278160"/>
                <a:ext cx="1305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6372360" y="3308400"/>
                <a:ext cx="1512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11280" y="4346640"/>
                <a:ext cx="11570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b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448080" y="4307040"/>
                <a:ext cx="1484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338880" y="4100400"/>
                <a:ext cx="175104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432240" y="5249880"/>
                <a:ext cx="15714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metry in the Ci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78240" y="1011600"/>
            <a:ext cx="2453400" cy="2193480"/>
            <a:chOff x="678240" y="1011600"/>
            <a:chExt cx="2453400" cy="2193480"/>
          </a:xfrm>
        </p:grpSpPr>
        <p:grpSp>
          <p:nvGrpSpPr>
            <p:cNvPr id="286" name=""/>
            <p:cNvGrpSpPr/>
            <p:nvPr/>
          </p:nvGrpSpPr>
          <p:grpSpPr>
            <a:xfrm>
              <a:off x="678240" y="1011600"/>
              <a:ext cx="2193120" cy="2193480"/>
              <a:chOff x="678240" y="1011600"/>
              <a:chExt cx="2193120" cy="2193480"/>
            </a:xfrm>
          </p:grpSpPr>
          <p:sp>
            <p:nvSpPr>
              <p:cNvPr id="287" name=""/>
              <p:cNvSpPr/>
              <p:nvPr/>
            </p:nvSpPr>
            <p:spPr>
              <a:xfrm rot="17562000">
                <a:off x="924840" y="1258560"/>
                <a:ext cx="1600200" cy="1599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7562000">
                <a:off x="1235160" y="1762920"/>
                <a:ext cx="1752480" cy="914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074600" y="1828800"/>
              <a:ext cx="129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45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36360" y="22096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8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227640" y="1231920"/>
            <a:ext cx="2210040" cy="1980720"/>
            <a:chOff x="6227640" y="1231920"/>
            <a:chExt cx="2210040" cy="1980720"/>
          </a:xfrm>
        </p:grpSpPr>
        <p:grpSp>
          <p:nvGrpSpPr>
            <p:cNvPr id="292" name=""/>
            <p:cNvGrpSpPr/>
            <p:nvPr/>
          </p:nvGrpSpPr>
          <p:grpSpPr>
            <a:xfrm>
              <a:off x="6227640" y="1231920"/>
              <a:ext cx="1600200" cy="1980720"/>
              <a:chOff x="6227640" y="1231920"/>
              <a:chExt cx="1600200" cy="1980720"/>
            </a:xfrm>
          </p:grpSpPr>
          <p:sp>
            <p:nvSpPr>
              <p:cNvPr id="293" name=""/>
              <p:cNvSpPr/>
              <p:nvPr/>
            </p:nvSpPr>
            <p:spPr>
              <a:xfrm>
                <a:off x="6227640" y="1231920"/>
                <a:ext cx="1600200" cy="1599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456240" y="1993680"/>
                <a:ext cx="1067040" cy="1218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761160" y="22222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32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42040" y="205416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755640" y="3284640"/>
                <a:ext cx="2087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655560" y="4341960"/>
                <a:ext cx="2287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027080" y="5635800"/>
                <a:ext cx="1544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013440" y="3284640"/>
                <a:ext cx="2087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5899320" y="4341960"/>
                <a:ext cx="23158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156360" y="5635800"/>
                <a:ext cx="1801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55640" y="3284640"/>
                <a:ext cx="2087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41520" y="4341960"/>
                <a:ext cx="23158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041480" y="5635800"/>
                <a:ext cx="1515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013440" y="3284640"/>
                <a:ext cx="2087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5913360" y="4341960"/>
                <a:ext cx="2287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242040" y="5635800"/>
                <a:ext cx="1630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385920" y="1224000"/>
            <a:ext cx="3394080" cy="2133000"/>
            <a:chOff x="385920" y="1224000"/>
            <a:chExt cx="3394080" cy="2133000"/>
          </a:xfrm>
        </p:grpSpPr>
        <p:grpSp>
          <p:nvGrpSpPr>
            <p:cNvPr id="311" name=""/>
            <p:cNvGrpSpPr/>
            <p:nvPr/>
          </p:nvGrpSpPr>
          <p:grpSpPr>
            <a:xfrm>
              <a:off x="385920" y="1224000"/>
              <a:ext cx="3124080" cy="2133000"/>
              <a:chOff x="385920" y="1224000"/>
              <a:chExt cx="3124080" cy="2133000"/>
            </a:xfrm>
          </p:grpSpPr>
          <p:sp>
            <p:nvSpPr>
              <p:cNvPr id="312" name=""/>
              <p:cNvSpPr/>
              <p:nvPr/>
            </p:nvSpPr>
            <p:spPr>
              <a:xfrm>
                <a:off x="884520" y="1224000"/>
                <a:ext cx="2133360" cy="205704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5920" y="2214360"/>
                <a:ext cx="3124080" cy="1142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1569960" y="22906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32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79800" y="19857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9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012000" y="1268280"/>
            <a:ext cx="2057400" cy="1752480"/>
            <a:chOff x="6012000" y="1268280"/>
            <a:chExt cx="2057400" cy="1752480"/>
          </a:xfrm>
        </p:grpSpPr>
        <p:sp>
          <p:nvSpPr>
            <p:cNvPr id="317" name=""/>
            <p:cNvSpPr/>
            <p:nvPr/>
          </p:nvSpPr>
          <p:spPr>
            <a:xfrm>
              <a:off x="6012000" y="1268280"/>
              <a:ext cx="1752480" cy="17524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392880" y="218268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50080" y="2182680"/>
              <a:ext cx="30492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545160" y="1725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19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26400" y="21826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7740720" y="19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length of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78240" y="1011600"/>
            <a:ext cx="2453400" cy="2193480"/>
            <a:chOff x="678240" y="1011600"/>
            <a:chExt cx="2453400" cy="2193480"/>
          </a:xfrm>
        </p:grpSpPr>
        <p:grpSp>
          <p:nvGrpSpPr>
            <p:cNvPr id="325" name=""/>
            <p:cNvGrpSpPr/>
            <p:nvPr/>
          </p:nvGrpSpPr>
          <p:grpSpPr>
            <a:xfrm>
              <a:off x="678240" y="1011600"/>
              <a:ext cx="2193120" cy="2193480"/>
              <a:chOff x="678240" y="1011600"/>
              <a:chExt cx="2193120" cy="2193480"/>
            </a:xfrm>
          </p:grpSpPr>
          <p:sp>
            <p:nvSpPr>
              <p:cNvPr id="326" name=""/>
              <p:cNvSpPr/>
              <p:nvPr/>
            </p:nvSpPr>
            <p:spPr>
              <a:xfrm rot="17562000">
                <a:off x="924840" y="1258560"/>
                <a:ext cx="1600200" cy="1599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7562000">
                <a:off x="1235160" y="1762920"/>
                <a:ext cx="1752480" cy="914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1074600" y="1828800"/>
              <a:ext cx="129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47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36360" y="22096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7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227640" y="1231920"/>
            <a:ext cx="2210040" cy="1980720"/>
            <a:chOff x="6227640" y="1231920"/>
            <a:chExt cx="2210040" cy="1980720"/>
          </a:xfrm>
        </p:grpSpPr>
        <p:grpSp>
          <p:nvGrpSpPr>
            <p:cNvPr id="331" name=""/>
            <p:cNvGrpSpPr/>
            <p:nvPr/>
          </p:nvGrpSpPr>
          <p:grpSpPr>
            <a:xfrm>
              <a:off x="6227640" y="1231920"/>
              <a:ext cx="1600200" cy="1980720"/>
              <a:chOff x="6227640" y="1231920"/>
              <a:chExt cx="1600200" cy="1980720"/>
            </a:xfrm>
          </p:grpSpPr>
          <p:sp>
            <p:nvSpPr>
              <p:cNvPr id="332" name=""/>
              <p:cNvSpPr/>
              <p:nvPr/>
            </p:nvSpPr>
            <p:spPr>
              <a:xfrm>
                <a:off x="6227640" y="1231920"/>
                <a:ext cx="1600200" cy="1599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456240" y="1993680"/>
                <a:ext cx="1067040" cy="1218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6761160" y="22222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33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42040" y="205416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3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798480" y="3284640"/>
                <a:ext cx="20019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641520" y="4341960"/>
                <a:ext cx="23158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041480" y="5664240"/>
                <a:ext cx="15159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6056280" y="3284640"/>
                <a:ext cx="20019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970600" y="4341960"/>
                <a:ext cx="21715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6256440" y="5664240"/>
                <a:ext cx="1601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9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77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5" dur="770" fill="hold"/>
                                        <p:tgtEl>
                                          <p:spTgt spid="3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7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9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length of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798480" y="3284640"/>
                <a:ext cx="20019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655560" y="4341960"/>
                <a:ext cx="2287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055520" y="5664240"/>
                <a:ext cx="1487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056280" y="3284640"/>
                <a:ext cx="20019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913360" y="4341960"/>
                <a:ext cx="2287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6299280" y="5664240"/>
                <a:ext cx="15159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9" name=""/>
          <p:cNvGrpSpPr/>
          <p:nvPr/>
        </p:nvGrpSpPr>
        <p:grpSpPr>
          <a:xfrm>
            <a:off x="385920" y="1224000"/>
            <a:ext cx="3394080" cy="2133000"/>
            <a:chOff x="385920" y="1224000"/>
            <a:chExt cx="3394080" cy="2133000"/>
          </a:xfrm>
        </p:grpSpPr>
        <p:grpSp>
          <p:nvGrpSpPr>
            <p:cNvPr id="350" name=""/>
            <p:cNvGrpSpPr/>
            <p:nvPr/>
          </p:nvGrpSpPr>
          <p:grpSpPr>
            <a:xfrm>
              <a:off x="385920" y="1224000"/>
              <a:ext cx="3124080" cy="2133000"/>
              <a:chOff x="385920" y="1224000"/>
              <a:chExt cx="3124080" cy="2133000"/>
            </a:xfrm>
          </p:grpSpPr>
          <p:sp>
            <p:nvSpPr>
              <p:cNvPr id="351" name=""/>
              <p:cNvSpPr/>
              <p:nvPr/>
            </p:nvSpPr>
            <p:spPr>
              <a:xfrm>
                <a:off x="884520" y="1224000"/>
                <a:ext cx="2133360" cy="205704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85920" y="2214360"/>
                <a:ext cx="3124080" cy="1142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1569960" y="22906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35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79800" y="19857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9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012000" y="1268280"/>
            <a:ext cx="2057400" cy="1752480"/>
            <a:chOff x="6012000" y="1268280"/>
            <a:chExt cx="2057400" cy="1752480"/>
          </a:xfrm>
        </p:grpSpPr>
        <p:sp>
          <p:nvSpPr>
            <p:cNvPr id="356" name=""/>
            <p:cNvSpPr/>
            <p:nvPr/>
          </p:nvSpPr>
          <p:spPr>
            <a:xfrm>
              <a:off x="6012000" y="1268280"/>
              <a:ext cx="1752480" cy="17524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392880" y="218268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0080" y="2182680"/>
              <a:ext cx="30492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45160" y="1725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2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6400" y="21826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7740720" y="19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area find the following 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77160" y="1010160"/>
            <a:ext cx="2454840" cy="2193840"/>
            <a:chOff x="677160" y="1010160"/>
            <a:chExt cx="2454840" cy="2193840"/>
          </a:xfrm>
        </p:grpSpPr>
        <p:sp>
          <p:nvSpPr>
            <p:cNvPr id="364" name=""/>
            <p:cNvSpPr/>
            <p:nvPr/>
          </p:nvSpPr>
          <p:spPr>
            <a:xfrm rot="17562000">
              <a:off x="923760" y="1256760"/>
              <a:ext cx="1600200" cy="1600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7562000">
              <a:off x="1234800" y="1761840"/>
              <a:ext cx="1752480" cy="91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74600" y="182880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36720" y="22096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8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227640" y="1231920"/>
            <a:ext cx="2210040" cy="1981080"/>
            <a:chOff x="6227640" y="1231920"/>
            <a:chExt cx="2210040" cy="1981080"/>
          </a:xfrm>
        </p:grpSpPr>
        <p:sp>
          <p:nvSpPr>
            <p:cNvPr id="369" name=""/>
            <p:cNvSpPr/>
            <p:nvPr/>
          </p:nvSpPr>
          <p:spPr>
            <a:xfrm>
              <a:off x="6227640" y="1231920"/>
              <a:ext cx="1600200" cy="160020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56240" y="1994040"/>
              <a:ext cx="1067040" cy="1218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761160" y="222264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42040" y="205416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55640" y="3141720"/>
                <a:ext cx="2087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12640" y="4005360"/>
                <a:ext cx="2573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55640" y="4941720"/>
                <a:ext cx="19447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6013440" y="3046320"/>
                <a:ext cx="2087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856120" y="3981600"/>
                <a:ext cx="24609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2627280" y="1484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140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667640" y="105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46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082520" y="6024600"/>
                <a:ext cx="1287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5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140520" y="4941720"/>
                <a:ext cx="18302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423040" y="5992920"/>
                <a:ext cx="1689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  <m:r>
                      <m:t xml:space="preserve">°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429680" y="5981760"/>
                <a:ext cx="10890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4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Length find the following 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77160" y="1010160"/>
            <a:ext cx="2454840" cy="2193840"/>
            <a:chOff x="677160" y="1010160"/>
            <a:chExt cx="2454840" cy="2193840"/>
          </a:xfrm>
        </p:grpSpPr>
        <p:sp>
          <p:nvSpPr>
            <p:cNvPr id="386" name=""/>
            <p:cNvSpPr/>
            <p:nvPr/>
          </p:nvSpPr>
          <p:spPr>
            <a:xfrm rot="17562000">
              <a:off x="923760" y="1256760"/>
              <a:ext cx="1600200" cy="1600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7562000">
              <a:off x="1234800" y="1761840"/>
              <a:ext cx="1752480" cy="91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74600" y="182880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36720" y="22096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8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6227640" y="1231920"/>
            <a:ext cx="2210040" cy="1981080"/>
            <a:chOff x="6227640" y="1231920"/>
            <a:chExt cx="2210040" cy="1981080"/>
          </a:xfrm>
        </p:grpSpPr>
        <p:sp>
          <p:nvSpPr>
            <p:cNvPr id="391" name=""/>
            <p:cNvSpPr/>
            <p:nvPr/>
          </p:nvSpPr>
          <p:spPr>
            <a:xfrm>
              <a:off x="6227640" y="1231920"/>
              <a:ext cx="1600200" cy="16002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56240" y="1994040"/>
              <a:ext cx="1067040" cy="1218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61160" y="222264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42040" y="205416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798480" y="3141720"/>
                <a:ext cx="20019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584280" y="4005360"/>
                <a:ext cx="24303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841320" y="4941720"/>
                <a:ext cx="1773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6056280" y="3046320"/>
                <a:ext cx="20019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942160" y="3981600"/>
                <a:ext cx="22906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2627280" y="1484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= 3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67640" y="105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= 22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1082520" y="6024600"/>
                <a:ext cx="1287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5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6140520" y="4941720"/>
                <a:ext cx="18302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423040" y="5992920"/>
                <a:ext cx="1689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  <m:r>
                      <m:t xml:space="preserve">°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7415280" y="5981760"/>
                <a:ext cx="1117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the missing angles a°, b°, c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964880" y="1859040"/>
            <a:ext cx="4528800" cy="4511520"/>
            <a:chOff x="1964880" y="1859040"/>
            <a:chExt cx="4528800" cy="4511520"/>
          </a:xfrm>
        </p:grpSpPr>
        <p:grpSp>
          <p:nvGrpSpPr>
            <p:cNvPr id="408" name=""/>
            <p:cNvGrpSpPr/>
            <p:nvPr/>
          </p:nvGrpSpPr>
          <p:grpSpPr>
            <a:xfrm>
              <a:off x="1964880" y="1859040"/>
              <a:ext cx="4528800" cy="4511520"/>
              <a:chOff x="1964880" y="1859040"/>
              <a:chExt cx="4528800" cy="4511520"/>
            </a:xfrm>
          </p:grpSpPr>
          <p:sp>
            <p:nvSpPr>
              <p:cNvPr id="409" name=""/>
              <p:cNvSpPr/>
              <p:nvPr/>
            </p:nvSpPr>
            <p:spPr>
              <a:xfrm rot="19455600">
                <a:off x="2590920" y="2514240"/>
                <a:ext cx="3276360" cy="32004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2899440" y="3157920"/>
                <a:ext cx="2659320" cy="191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 flipV="1">
                <a:off x="2778480" y="3468600"/>
                <a:ext cx="1481400" cy="6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 flipV="1">
                <a:off x="2778480" y="3468600"/>
                <a:ext cx="120960" cy="16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2778480" y="3157920"/>
                <a:ext cx="2780280" cy="31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4114800" y="41148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836800" y="4513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48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819520" y="3581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57600" y="3962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72428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0080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° = 48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400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° = 84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4008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° = 42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500"/>
                            </p:stCondLst>
                            <p:childTnLst>
                              <p:par>
                                <p:cTn id="8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7000"/>
                            </p:stCondLst>
                            <p:childTnLst>
                              <p:par>
                                <p:cTn id="8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the missing length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88960" y="1675800"/>
            <a:ext cx="4447440" cy="4420440"/>
            <a:chOff x="588960" y="1675800"/>
            <a:chExt cx="4447440" cy="4420440"/>
          </a:xfrm>
        </p:grpSpPr>
        <p:grpSp>
          <p:nvGrpSpPr>
            <p:cNvPr id="424" name=""/>
            <p:cNvGrpSpPr/>
            <p:nvPr/>
          </p:nvGrpSpPr>
          <p:grpSpPr>
            <a:xfrm>
              <a:off x="588960" y="1675800"/>
              <a:ext cx="4447440" cy="4420440"/>
              <a:chOff x="588960" y="1675800"/>
              <a:chExt cx="4447440" cy="4420440"/>
            </a:xfrm>
          </p:grpSpPr>
          <p:sp>
            <p:nvSpPr>
              <p:cNvPr id="425" name=""/>
              <p:cNvSpPr/>
              <p:nvPr/>
            </p:nvSpPr>
            <p:spPr>
              <a:xfrm rot="19768800">
                <a:off x="1174320" y="2286000"/>
                <a:ext cx="3276360" cy="320004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1401480" y="3053880"/>
                <a:ext cx="2822400" cy="166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1401480" y="2412360"/>
                <a:ext cx="2178720" cy="230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flipV="1">
                <a:off x="3579840" y="2412360"/>
                <a:ext cx="643680" cy="641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9768800">
                <a:off x="2744640" y="3779640"/>
                <a:ext cx="152280" cy="159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2317680" y="30481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98920" y="3886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1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17880" y="2286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 rot="19105800">
            <a:off x="3508200" y="2457000"/>
            <a:ext cx="142920" cy="128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2171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y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715000" y="288756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15000" y="35434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21 = x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+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715000" y="425916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121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15000" y="494496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12 = 1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the missing angle x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58440" y="1789920"/>
            <a:ext cx="4447080" cy="4344480"/>
            <a:chOff x="658440" y="1789920"/>
            <a:chExt cx="4447080" cy="4344480"/>
          </a:xfrm>
        </p:grpSpPr>
        <p:grpSp>
          <p:nvGrpSpPr>
            <p:cNvPr id="441" name=""/>
            <p:cNvGrpSpPr/>
            <p:nvPr/>
          </p:nvGrpSpPr>
          <p:grpSpPr>
            <a:xfrm>
              <a:off x="658440" y="1789920"/>
              <a:ext cx="4397400" cy="4344480"/>
              <a:chOff x="658440" y="1789920"/>
              <a:chExt cx="4397400" cy="4344480"/>
            </a:xfrm>
          </p:grpSpPr>
          <p:sp>
            <p:nvSpPr>
              <p:cNvPr id="442" name=""/>
              <p:cNvSpPr/>
              <p:nvPr/>
            </p:nvSpPr>
            <p:spPr>
              <a:xfrm rot="11743200">
                <a:off x="1066320" y="2209320"/>
                <a:ext cx="3581640" cy="3505320"/>
              </a:xfrm>
              <a:prstGeom prst="ellipse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 flipV="1">
                <a:off x="1133280" y="3476520"/>
                <a:ext cx="3447720" cy="9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2806560" y="4447080"/>
                <a:ext cx="1774440" cy="124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133280" y="3476520"/>
                <a:ext cx="1673280" cy="221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1743200">
                <a:off x="2794680" y="3889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3886200" y="42670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x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05120" y="42670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2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66880" y="3352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4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1219320" y="4419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666880" y="2895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724360" y="2743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H CAH T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877000" y="3276720"/>
                <a:ext cx="16016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y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886360" y="4156200"/>
                <a:ext cx="142236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5978520" y="4917960"/>
                <a:ext cx="283680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580068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648400" y="259092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67160" y="2590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19396800">
            <a:off x="2747880" y="5509800"/>
            <a:ext cx="157320" cy="142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2500"/>
                            </p:stCondLst>
                            <p:childTnLst>
                              <p:par>
                                <p:cTn id="9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429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½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79280" y="1341000"/>
            <a:ext cx="2519280" cy="1735560"/>
            <a:chOff x="179280" y="1341000"/>
            <a:chExt cx="2519280" cy="1735560"/>
          </a:xfrm>
        </p:grpSpPr>
        <p:sp>
          <p:nvSpPr>
            <p:cNvPr id="55" name=""/>
            <p:cNvSpPr/>
            <p:nvPr/>
          </p:nvSpPr>
          <p:spPr>
            <a:xfrm>
              <a:off x="755280" y="1341360"/>
              <a:ext cx="71928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74560" y="270828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755280" y="1341000"/>
              <a:ext cx="194328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55280" y="27082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755280" y="1341000"/>
              <a:ext cx="0" cy="13669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63280" y="2708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9280" y="1844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18920" y="16225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012000" y="36194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uare - circ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12000" y="41702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x b –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46753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x 9 –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4.5 x 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12000" y="52498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81 – 63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443640" y="1413000"/>
            <a:ext cx="1800360" cy="2096640"/>
            <a:chOff x="6443640" y="1413000"/>
            <a:chExt cx="1800360" cy="2096640"/>
          </a:xfrm>
        </p:grpSpPr>
        <p:sp>
          <p:nvSpPr>
            <p:cNvPr id="68" name=""/>
            <p:cNvSpPr/>
            <p:nvPr/>
          </p:nvSpPr>
          <p:spPr>
            <a:xfrm>
              <a:off x="6444720" y="1413000"/>
              <a:ext cx="1798920" cy="17283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43640" y="1413000"/>
              <a:ext cx="1800360" cy="172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67520" y="3141360"/>
              <a:ext cx="110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9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012000" y="58262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17.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39258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44308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21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132000" y="907920"/>
            <a:ext cx="3240360" cy="2312640"/>
            <a:chOff x="3132000" y="907920"/>
            <a:chExt cx="3240360" cy="2312640"/>
          </a:xfrm>
        </p:grpSpPr>
        <p:sp>
          <p:nvSpPr>
            <p:cNvPr id="75" name=""/>
            <p:cNvSpPr/>
            <p:nvPr/>
          </p:nvSpPr>
          <p:spPr>
            <a:xfrm>
              <a:off x="3997440" y="90792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7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41800" y="285228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3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32000" y="1339560"/>
              <a:ext cx="2521080" cy="1512720"/>
            </a:xfrm>
            <a:custGeom>
              <a:avLst/>
              <a:gdLst>
                <a:gd name="textAreaLeft" fmla="*/ 682920 w 2521080"/>
                <a:gd name="textAreaRight" fmla="*/ 1838160 w 2521080"/>
                <a:gd name="textAreaTop" fmla="*/ 409680 h 1512720"/>
                <a:gd name="textAreaBottom" fmla="*/ 110304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214" y="21600"/>
                  </a:lnTo>
                  <a:lnTo>
                    <a:pt x="7386" y="2160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92720" y="191592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8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4140360" y="1339560"/>
              <a:ext cx="0" cy="15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40360" y="184428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6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130560" y="3716280"/>
            <a:ext cx="27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0560" y="4267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(7 + 3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0560" y="47721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 x 10 x 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0560" y="53467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the missing angles a°, b°, c°…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the bold lines are tan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270320" y="44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40080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° = 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° = 59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008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° = 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526320" y="2430360"/>
            <a:ext cx="4754160" cy="3287160"/>
            <a:chOff x="526320" y="2430360"/>
            <a:chExt cx="4754160" cy="3287160"/>
          </a:xfrm>
        </p:grpSpPr>
        <p:grpSp>
          <p:nvGrpSpPr>
            <p:cNvPr id="467" name=""/>
            <p:cNvGrpSpPr/>
            <p:nvPr/>
          </p:nvGrpSpPr>
          <p:grpSpPr>
            <a:xfrm>
              <a:off x="526320" y="2430360"/>
              <a:ext cx="4754160" cy="3287160"/>
              <a:chOff x="526320" y="2430360"/>
              <a:chExt cx="4754160" cy="3287160"/>
            </a:xfrm>
          </p:grpSpPr>
          <p:sp>
            <p:nvSpPr>
              <p:cNvPr id="468" name=""/>
              <p:cNvSpPr/>
              <p:nvPr/>
            </p:nvSpPr>
            <p:spPr>
              <a:xfrm rot="20638800">
                <a:off x="866880" y="2979360"/>
                <a:ext cx="2514600" cy="243828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1252440" y="4561200"/>
                <a:ext cx="4028040" cy="115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 flipV="1">
                <a:off x="2090880" y="4221360"/>
                <a:ext cx="333000" cy="115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20638800">
                <a:off x="2014560" y="41436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1252440" y="4208760"/>
                <a:ext cx="835200" cy="150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087640" y="4209120"/>
                <a:ext cx="3192840" cy="35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31000" y="2430360"/>
                <a:ext cx="1263960" cy="194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flipV="1">
                <a:off x="1076400" y="3541320"/>
                <a:ext cx="1010880" cy="66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526320" y="4215240"/>
                <a:ext cx="1563120" cy="17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1373040" y="3921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31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171880" y="42480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70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73360" y="454644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40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1406520" y="5262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988920" y="3568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400" y="40212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396120" y="3948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° = 5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the missing radius,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676520" y="2819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15000" y="2106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H CAH T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854680" y="2639880"/>
                <a:ext cx="16286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5867280" y="3492360"/>
                <a:ext cx="16020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5862600" y="4316400"/>
                <a:ext cx="19098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6151680" y="4854600"/>
                <a:ext cx="11840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1" name=""/>
          <p:cNvSpPr/>
          <p:nvPr/>
        </p:nvSpPr>
        <p:spPr>
          <a:xfrm>
            <a:off x="7162920" y="24876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638680" y="19810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791320" y="198108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600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225440" y="1798920"/>
            <a:ext cx="3853800" cy="4098240"/>
            <a:chOff x="1225440" y="1798920"/>
            <a:chExt cx="3853800" cy="4098240"/>
          </a:xfrm>
        </p:grpSpPr>
        <p:grpSp>
          <p:nvGrpSpPr>
            <p:cNvPr id="496" name=""/>
            <p:cNvGrpSpPr/>
            <p:nvPr/>
          </p:nvGrpSpPr>
          <p:grpSpPr>
            <a:xfrm>
              <a:off x="1225440" y="1798920"/>
              <a:ext cx="3853800" cy="4098240"/>
              <a:chOff x="1225440" y="1798920"/>
              <a:chExt cx="3853800" cy="4098240"/>
            </a:xfrm>
          </p:grpSpPr>
          <p:sp>
            <p:nvSpPr>
              <p:cNvPr id="497" name=""/>
              <p:cNvSpPr/>
              <p:nvPr/>
            </p:nvSpPr>
            <p:spPr>
              <a:xfrm rot="12187200">
                <a:off x="1922760" y="2798640"/>
                <a:ext cx="2742840" cy="2666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flipV="1">
                <a:off x="1225440" y="1798920"/>
                <a:ext cx="3433680" cy="146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3279240" y="2906640"/>
                <a:ext cx="538560" cy="126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2187200">
                <a:off x="3233160" y="40212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225440" y="1799640"/>
                <a:ext cx="2084400" cy="229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 flipV="1">
                <a:off x="1225440" y="1798920"/>
                <a:ext cx="2592720" cy="1107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1752480" y="2133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6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81280" y="3352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590920" y="1828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3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 rot="17664600">
            <a:off x="3534840" y="286524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809880" y="3352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0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and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two functio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 and g(x) = 4 -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95280" y="112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39640" y="1773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1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39640" y="3213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3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39640" y="4724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-4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39640" y="60865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643280" y="1773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3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643280" y="3213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9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643280" y="46879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-1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3280" y="6093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y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19280" y="1700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(1)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619280" y="2106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1 –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835280" y="25383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619280" y="32148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(3)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619280" y="36212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9 –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835280" y="40528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47640" y="4653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(-4)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47640" y="50594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16 –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763640" y="54910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47640" y="60674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a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580000" y="17002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 –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80000" y="2205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651640" y="3141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 –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51640" y="36464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580000" y="46274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 – –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80000" y="51325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0000" y="60674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 –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9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77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0" dur="770" fill="hold"/>
                                        <p:tgtEl>
                                          <p:spTgt spid="5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2" dur="77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4" dur="77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50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1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6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fun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 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95280" y="1231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the range when x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-2, -1, 0 , 1, 2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55640" y="19890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(-2) = 2(-2)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3(-2) +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403280" y="24210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2(4) – 3(-2) +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03280" y="282744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8 + 6 + 1 =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55640" y="36450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(-1) = 2(-1)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3(-1) +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403280" y="407664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2(1) – 3(-1) +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403280" y="44830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2 + 3 + 1 =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5640" y="51577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(0) = 2(0)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3(0) +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403280" y="55897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0 – 0 +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403280" y="59961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643280" y="19890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(1) = 2(1)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3(1) +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291280" y="24210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2(1) – 3(1) +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91280" y="28274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2 – 3 + 1 =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643280" y="3573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(2) = 2(2)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3(2) +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91280" y="400536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2(4) – 3(2) +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91280" y="44118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8 – 6 + 1 =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932360" y="54198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 {0,1,6,15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4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4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4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two functio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x) = 4 - x  and g(x) =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95280" y="1125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x w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640" y="1773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9640" y="41115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 = 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284720" y="1700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x)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56000" y="4040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x) = 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08000" y="17002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 – x =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908000" y="2106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4 –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124000" y="2538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908000" y="4076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 – x = -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08000" y="4483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4 +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124000" y="49150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867280" y="170028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1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867280" y="210816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67280" y="249228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67280" y="290052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= ±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867280" y="400356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1 = 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867280" y="441180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= 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7280" y="479592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867280" y="520380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= ±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5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7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5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ax + b,   y =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 y = a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b,   y = a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22200" y="1052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equation of the following graphs given the general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38360" y="1989000"/>
            <a:ext cx="10256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66840" y="2220840"/>
            <a:ext cx="1396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373480" y="1557360"/>
            <a:ext cx="5760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68360" y="1628640"/>
            <a:ext cx="3816360" cy="2448000"/>
            <a:chOff x="468360" y="1628640"/>
            <a:chExt cx="3816360" cy="2448000"/>
          </a:xfrm>
        </p:grpSpPr>
        <p:sp>
          <p:nvSpPr>
            <p:cNvPr id="581" name=""/>
            <p:cNvSpPr/>
            <p:nvPr/>
          </p:nvSpPr>
          <p:spPr>
            <a:xfrm flipV="1">
              <a:off x="1835280" y="184464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8360" y="3141720"/>
              <a:ext cx="29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259080" y="3068640"/>
              <a:ext cx="102564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403280" y="1628640"/>
              <a:ext cx="10256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971640" y="1844640"/>
            <a:ext cx="1728720" cy="1297080"/>
          </a:xfrm>
          <a:custGeom>
            <a:avLst/>
            <a:gdLst/>
            <a:ahLst/>
            <a:rect l="l" t="t" r="r" b="b"/>
            <a:pathLst>
              <a:path w="1361" h="817">
                <a:moveTo>
                  <a:pt x="0" y="0"/>
                </a:moveTo>
                <a:cubicBezTo>
                  <a:pt x="226" y="408"/>
                  <a:pt x="453" y="817"/>
                  <a:pt x="680" y="817"/>
                </a:cubicBezTo>
                <a:cubicBezTo>
                  <a:pt x="907" y="817"/>
                  <a:pt x="1134" y="408"/>
                  <a:pt x="136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6802560" y="1844280"/>
            <a:ext cx="14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435640" y="314172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226360" y="3068640"/>
            <a:ext cx="1025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370560" y="1628640"/>
            <a:ext cx="10256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4000" y="4653000"/>
            <a:ext cx="2881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 (2,12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596360" y="2276640"/>
            <a:ext cx="1025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8,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596360" y="1628640"/>
            <a:ext cx="5760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476360" y="4149720"/>
            <a:ext cx="1397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829880" y="465300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=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965600" y="501336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a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082240" y="536724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721520" y="5924520"/>
            <a:ext cx="1188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5867280" y="2205000"/>
            <a:ext cx="2016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16720" y="2492280"/>
            <a:ext cx="1025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364000" y="2133720"/>
            <a:ext cx="1397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x +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012000" y="3660840"/>
            <a:ext cx="1396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x +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930920" y="4149720"/>
            <a:ext cx="2881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 (0,5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70560" y="4149720"/>
            <a:ext cx="2089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= x +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372360" y="4510080"/>
            <a:ext cx="15145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27640" y="4870440"/>
            <a:ext cx="1397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x +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932360" y="5302080"/>
            <a:ext cx="2881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 (8,7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343560" y="5318280"/>
            <a:ext cx="13971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= 8a +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415200" y="5676840"/>
            <a:ext cx="1396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862960" y="6165720"/>
            <a:ext cx="172152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+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5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503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5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6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7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83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equation of the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1978200" y="184428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2200" y="321300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266920" y="1916280"/>
            <a:ext cx="1297080" cy="1152360"/>
          </a:xfrm>
          <a:custGeom>
            <a:avLst/>
            <a:gdLst/>
            <a:ahLst/>
            <a:rect l="l" t="t" r="r" b="b"/>
            <a:pathLst>
              <a:path w="817" h="726">
                <a:moveTo>
                  <a:pt x="0" y="0"/>
                </a:moveTo>
                <a:cubicBezTo>
                  <a:pt x="0" y="234"/>
                  <a:pt x="0" y="469"/>
                  <a:pt x="136" y="590"/>
                </a:cubicBezTo>
                <a:cubicBezTo>
                  <a:pt x="272" y="711"/>
                  <a:pt x="544" y="718"/>
                  <a:pt x="817" y="7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10800000">
            <a:off x="466200" y="3355920"/>
            <a:ext cx="1297080" cy="1152720"/>
          </a:xfrm>
          <a:custGeom>
            <a:avLst/>
            <a:gdLst/>
            <a:ahLst/>
            <a:rect l="l" t="t" r="r" b="b"/>
            <a:pathLst>
              <a:path w="817" h="726">
                <a:moveTo>
                  <a:pt x="0" y="0"/>
                </a:moveTo>
                <a:cubicBezTo>
                  <a:pt x="0" y="234"/>
                  <a:pt x="0" y="469"/>
                  <a:pt x="136" y="590"/>
                </a:cubicBezTo>
                <a:cubicBezTo>
                  <a:pt x="272" y="711"/>
                  <a:pt x="544" y="718"/>
                  <a:pt x="817" y="7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584360" y="3565440"/>
            <a:ext cx="5763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26920" y="4197240"/>
            <a:ext cx="1025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2,-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618000" y="3213000"/>
            <a:ext cx="449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546200" y="1628640"/>
            <a:ext cx="4492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484360" y="1773360"/>
                <a:ext cx="792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6588000" y="1557360"/>
                <a:ext cx="792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4427640" y="2598840"/>
                <a:ext cx="20685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6699240" y="2421000"/>
                <a:ext cx="13287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6562800" y="3500280"/>
                <a:ext cx="16095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6588000" y="4295880"/>
                <a:ext cx="870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6588000" y="4869000"/>
                <a:ext cx="946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0" dur="77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1" dur="770" fill="hold"/>
                                        <p:tgtEl>
                                          <p:spTgt spid="6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3" dur="77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5" dur="77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533520" y="838080"/>
            <a:ext cx="3657600" cy="2288520"/>
            <a:chOff x="533520" y="838080"/>
            <a:chExt cx="3657600" cy="2288520"/>
          </a:xfrm>
        </p:grpSpPr>
        <p:sp>
          <p:nvSpPr>
            <p:cNvPr id="86" name=""/>
            <p:cNvSpPr/>
            <p:nvPr/>
          </p:nvSpPr>
          <p:spPr>
            <a:xfrm>
              <a:off x="1219320" y="838080"/>
              <a:ext cx="2209680" cy="1828800"/>
            </a:xfrm>
            <a:prstGeom prst="parallelogram">
              <a:avLst>
                <a:gd name="adj" fmla="val 3020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800" y="2666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3520" y="22860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5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6520" y="26668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7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00400" y="1600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876920" y="914400"/>
            <a:ext cx="4038480" cy="1523520"/>
            <a:chOff x="4876920" y="914400"/>
            <a:chExt cx="4038480" cy="1523520"/>
          </a:xfrm>
        </p:grpSpPr>
        <p:grpSp>
          <p:nvGrpSpPr>
            <p:cNvPr id="92" name=""/>
            <p:cNvGrpSpPr/>
            <p:nvPr/>
          </p:nvGrpSpPr>
          <p:grpSpPr>
            <a:xfrm>
              <a:off x="4876920" y="990360"/>
              <a:ext cx="3124080" cy="1447560"/>
              <a:chOff x="4876920" y="990360"/>
              <a:chExt cx="3124080" cy="1447560"/>
            </a:xfrm>
          </p:grpSpPr>
          <p:sp>
            <p:nvSpPr>
              <p:cNvPr id="93" name=""/>
              <p:cNvSpPr/>
              <p:nvPr/>
            </p:nvSpPr>
            <p:spPr>
              <a:xfrm rot="16200000">
                <a:off x="5715000" y="151920"/>
                <a:ext cx="1447560" cy="3124080"/>
              </a:xfrm>
              <a:prstGeom prst="diamond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5715000" y="2057760"/>
                <a:ext cx="15192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7086600" y="1219320"/>
                <a:ext cx="1519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715000" y="1219680"/>
                <a:ext cx="1519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086600" y="2034000"/>
                <a:ext cx="15192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V="1">
              <a:off x="8153640" y="99036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53640" y="1523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8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76920" y="9144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2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990720" y="838080"/>
            <a:ext cx="1371600" cy="1828800"/>
            <a:chOff x="990720" y="838080"/>
            <a:chExt cx="1371600" cy="1828800"/>
          </a:xfrm>
        </p:grpSpPr>
        <p:sp>
          <p:nvSpPr>
            <p:cNvPr id="102" name=""/>
            <p:cNvSpPr/>
            <p:nvPr/>
          </p:nvSpPr>
          <p:spPr>
            <a:xfrm>
              <a:off x="1752480" y="8380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00200" y="251460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52480" y="1600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90720" y="1523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914400" y="3200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B ×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3657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AH T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419112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n 75 =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724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 = 10 sin 75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9.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5257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7 ×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9.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5791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67.6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320040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×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÷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876920" y="990360"/>
            <a:ext cx="3124080" cy="1447920"/>
            <a:chOff x="4876920" y="990360"/>
            <a:chExt cx="3124080" cy="1447920"/>
          </a:xfrm>
        </p:grpSpPr>
        <p:grpSp>
          <p:nvGrpSpPr>
            <p:cNvPr id="114" name=""/>
            <p:cNvGrpSpPr/>
            <p:nvPr/>
          </p:nvGrpSpPr>
          <p:grpSpPr>
            <a:xfrm>
              <a:off x="4876920" y="990360"/>
              <a:ext cx="3124080" cy="1447920"/>
              <a:chOff x="4876920" y="990360"/>
              <a:chExt cx="3124080" cy="144792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4876920" y="990360"/>
                <a:ext cx="3124080" cy="1447920"/>
                <a:chOff x="4876920" y="990360"/>
                <a:chExt cx="3124080" cy="1447920"/>
              </a:xfrm>
            </p:grpSpPr>
            <p:sp>
              <p:nvSpPr>
                <p:cNvPr id="116" name=""/>
                <p:cNvSpPr/>
                <p:nvPr/>
              </p:nvSpPr>
              <p:spPr>
                <a:xfrm flipV="1">
                  <a:off x="4876920" y="990360"/>
                  <a:ext cx="0" cy="144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876920" y="990720"/>
                  <a:ext cx="31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876920" y="2438280"/>
                  <a:ext cx="31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001000" y="990720"/>
                  <a:ext cx="0" cy="144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4876920" y="171756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442200" y="99036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5486400" y="16002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952880" y="3809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4343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28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11.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49528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8 ×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2.6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÷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= 90.5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609480" y="685800"/>
            <a:ext cx="7925040" cy="2971800"/>
            <a:chOff x="609480" y="685800"/>
            <a:chExt cx="7925040" cy="2971800"/>
          </a:xfrm>
        </p:grpSpPr>
        <p:grpSp>
          <p:nvGrpSpPr>
            <p:cNvPr id="129" name=""/>
            <p:cNvGrpSpPr/>
            <p:nvPr/>
          </p:nvGrpSpPr>
          <p:grpSpPr>
            <a:xfrm>
              <a:off x="609480" y="1447920"/>
              <a:ext cx="1828800" cy="2209320"/>
              <a:chOff x="609480" y="1447920"/>
              <a:chExt cx="1828800" cy="2209320"/>
            </a:xfrm>
          </p:grpSpPr>
          <p:sp>
            <p:nvSpPr>
              <p:cNvPr id="130" name=""/>
              <p:cNvSpPr/>
              <p:nvPr/>
            </p:nvSpPr>
            <p:spPr>
              <a:xfrm>
                <a:off x="609480" y="3124080"/>
                <a:ext cx="1828800" cy="533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9480" y="1447920"/>
                <a:ext cx="1828800" cy="533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2438280" y="1752480"/>
                <a:ext cx="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609480" y="1676160"/>
                <a:ext cx="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809880" y="685800"/>
              <a:ext cx="2514600" cy="1752120"/>
              <a:chOff x="3809880" y="685800"/>
              <a:chExt cx="2514600" cy="1752120"/>
            </a:xfrm>
          </p:grpSpPr>
          <p:sp>
            <p:nvSpPr>
              <p:cNvPr id="135" name=""/>
              <p:cNvSpPr/>
              <p:nvPr/>
            </p:nvSpPr>
            <p:spPr>
              <a:xfrm>
                <a:off x="3809880" y="1904760"/>
                <a:ext cx="1828800" cy="53316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95680" y="685800"/>
                <a:ext cx="1828800" cy="53316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3809880" y="685800"/>
                <a:ext cx="68580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5638680" y="1218960"/>
                <a:ext cx="68580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3809880" y="1218960"/>
                <a:ext cx="68580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467480" y="1797120"/>
              <a:ext cx="1067040" cy="1860480"/>
              <a:chOff x="7467480" y="1797120"/>
              <a:chExt cx="1067040" cy="1860480"/>
            </a:xfrm>
          </p:grpSpPr>
          <p:sp>
            <p:nvSpPr>
              <p:cNvPr id="141" name=""/>
              <p:cNvSpPr/>
              <p:nvPr/>
            </p:nvSpPr>
            <p:spPr>
              <a:xfrm>
                <a:off x="7467480" y="3092400"/>
                <a:ext cx="1067040" cy="565200"/>
              </a:xfrm>
              <a:custGeom>
                <a:avLst/>
                <a:gdLst/>
                <a:ahLst/>
                <a:rect l="l" t="t" r="r" b="b"/>
                <a:pathLst>
                  <a:path w="672" h="356">
                    <a:moveTo>
                      <a:pt x="312" y="324"/>
                    </a:moveTo>
                    <a:cubicBezTo>
                      <a:pt x="206" y="311"/>
                      <a:pt x="178" y="317"/>
                      <a:pt x="144" y="216"/>
                    </a:cubicBezTo>
                    <a:cubicBezTo>
                      <a:pt x="140" y="188"/>
                      <a:pt x="149" y="154"/>
                      <a:pt x="132" y="132"/>
                    </a:cubicBezTo>
                    <a:cubicBezTo>
                      <a:pt x="116" y="112"/>
                      <a:pt x="84" y="116"/>
                      <a:pt x="60" y="108"/>
                    </a:cubicBezTo>
                    <a:cubicBezTo>
                      <a:pt x="48" y="104"/>
                      <a:pt x="24" y="96"/>
                      <a:pt x="24" y="96"/>
                    </a:cubicBezTo>
                    <a:cubicBezTo>
                      <a:pt x="16" y="84"/>
                      <a:pt x="0" y="74"/>
                      <a:pt x="0" y="60"/>
                    </a:cubicBezTo>
                    <a:cubicBezTo>
                      <a:pt x="0" y="33"/>
                      <a:pt x="44" y="11"/>
                      <a:pt x="60" y="0"/>
                    </a:cubicBezTo>
                    <a:cubicBezTo>
                      <a:pt x="61" y="0"/>
                      <a:pt x="256" y="21"/>
                      <a:pt x="264" y="24"/>
                    </a:cubicBezTo>
                    <a:cubicBezTo>
                      <a:pt x="324" y="44"/>
                      <a:pt x="366" y="126"/>
                      <a:pt x="408" y="168"/>
                    </a:cubicBezTo>
                    <a:cubicBezTo>
                      <a:pt x="448" y="164"/>
                      <a:pt x="488" y="153"/>
                      <a:pt x="528" y="156"/>
                    </a:cubicBezTo>
                    <a:cubicBezTo>
                      <a:pt x="607" y="161"/>
                      <a:pt x="650" y="221"/>
                      <a:pt x="672" y="288"/>
                    </a:cubicBezTo>
                    <a:cubicBezTo>
                      <a:pt x="668" y="300"/>
                      <a:pt x="669" y="315"/>
                      <a:pt x="660" y="324"/>
                    </a:cubicBezTo>
                    <a:cubicBezTo>
                      <a:pt x="628" y="356"/>
                      <a:pt x="531" y="298"/>
                      <a:pt x="492" y="288"/>
                    </a:cubicBezTo>
                    <a:cubicBezTo>
                      <a:pt x="437" y="299"/>
                      <a:pt x="406" y="306"/>
                      <a:pt x="360" y="336"/>
                    </a:cubicBezTo>
                    <a:cubicBezTo>
                      <a:pt x="344" y="332"/>
                      <a:pt x="312" y="324"/>
                      <a:pt x="312" y="3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467480" y="1797120"/>
                <a:ext cx="1067040" cy="565200"/>
              </a:xfrm>
              <a:custGeom>
                <a:avLst/>
                <a:gdLst/>
                <a:ahLst/>
                <a:rect l="l" t="t" r="r" b="b"/>
                <a:pathLst>
                  <a:path w="672" h="356">
                    <a:moveTo>
                      <a:pt x="312" y="324"/>
                    </a:moveTo>
                    <a:cubicBezTo>
                      <a:pt x="206" y="311"/>
                      <a:pt x="178" y="317"/>
                      <a:pt x="144" y="216"/>
                    </a:cubicBezTo>
                    <a:cubicBezTo>
                      <a:pt x="140" y="188"/>
                      <a:pt x="149" y="154"/>
                      <a:pt x="132" y="132"/>
                    </a:cubicBezTo>
                    <a:cubicBezTo>
                      <a:pt x="116" y="112"/>
                      <a:pt x="84" y="116"/>
                      <a:pt x="60" y="108"/>
                    </a:cubicBezTo>
                    <a:cubicBezTo>
                      <a:pt x="48" y="104"/>
                      <a:pt x="24" y="96"/>
                      <a:pt x="24" y="96"/>
                    </a:cubicBezTo>
                    <a:cubicBezTo>
                      <a:pt x="16" y="84"/>
                      <a:pt x="0" y="74"/>
                      <a:pt x="0" y="60"/>
                    </a:cubicBezTo>
                    <a:cubicBezTo>
                      <a:pt x="0" y="33"/>
                      <a:pt x="44" y="11"/>
                      <a:pt x="60" y="0"/>
                    </a:cubicBezTo>
                    <a:cubicBezTo>
                      <a:pt x="61" y="0"/>
                      <a:pt x="256" y="21"/>
                      <a:pt x="264" y="24"/>
                    </a:cubicBezTo>
                    <a:cubicBezTo>
                      <a:pt x="324" y="44"/>
                      <a:pt x="366" y="126"/>
                      <a:pt x="408" y="168"/>
                    </a:cubicBezTo>
                    <a:cubicBezTo>
                      <a:pt x="448" y="164"/>
                      <a:pt x="488" y="153"/>
                      <a:pt x="528" y="156"/>
                    </a:cubicBezTo>
                    <a:cubicBezTo>
                      <a:pt x="607" y="161"/>
                      <a:pt x="650" y="221"/>
                      <a:pt x="672" y="288"/>
                    </a:cubicBezTo>
                    <a:cubicBezTo>
                      <a:pt x="668" y="300"/>
                      <a:pt x="669" y="315"/>
                      <a:pt x="660" y="324"/>
                    </a:cubicBezTo>
                    <a:cubicBezTo>
                      <a:pt x="628" y="356"/>
                      <a:pt x="531" y="298"/>
                      <a:pt x="492" y="288"/>
                    </a:cubicBezTo>
                    <a:cubicBezTo>
                      <a:pt x="437" y="299"/>
                      <a:pt x="406" y="306"/>
                      <a:pt x="360" y="336"/>
                    </a:cubicBezTo>
                    <a:cubicBezTo>
                      <a:pt x="344" y="332"/>
                      <a:pt x="312" y="324"/>
                      <a:pt x="312" y="3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7467480" y="1873440"/>
                <a:ext cx="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8534520" y="2254320"/>
                <a:ext cx="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"/>
          <p:cNvSpPr/>
          <p:nvPr/>
        </p:nvSpPr>
        <p:spPr>
          <a:xfrm>
            <a:off x="247680" y="419112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A</a:t>
            </a:r>
            <a:r>
              <a:rPr b="0" lang="en-GB" sz="2600" spc="-1" strike="noStrike" baseline="-25000">
                <a:solidFill>
                  <a:srgbClr val="333399"/>
                </a:solidFill>
                <a:latin typeface="Times New Roman"/>
              </a:rPr>
              <a:t>base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9480" y="1676520"/>
            <a:ext cx="7925040" cy="2745720"/>
            <a:chOff x="609480" y="1676520"/>
            <a:chExt cx="7925040" cy="2745720"/>
          </a:xfrm>
        </p:grpSpPr>
        <p:sp>
          <p:nvSpPr>
            <p:cNvPr id="147" name=""/>
            <p:cNvSpPr/>
            <p:nvPr/>
          </p:nvSpPr>
          <p:spPr>
            <a:xfrm>
              <a:off x="1219320" y="38098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38098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590920" y="175212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14600" y="2362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1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19720" y="24382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8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95800" y="19051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9920" y="16765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9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20120" y="3429000"/>
              <a:ext cx="749160" cy="546120"/>
            </a:xfrm>
            <a:custGeom>
              <a:avLst/>
              <a:gdLst/>
              <a:ahLst/>
              <a:rect l="l" t="t" r="r" b="b"/>
              <a:pathLst>
                <a:path w="472" h="344">
                  <a:moveTo>
                    <a:pt x="0" y="336"/>
                  </a:moveTo>
                  <a:cubicBezTo>
                    <a:pt x="196" y="340"/>
                    <a:pt x="392" y="344"/>
                    <a:pt x="432" y="288"/>
                  </a:cubicBezTo>
                  <a:cubicBezTo>
                    <a:pt x="472" y="232"/>
                    <a:pt x="356" y="116"/>
                    <a:pt x="2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962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 = 4cm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67480" y="24382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7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47680" y="46623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r 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58160" y="4726080"/>
            <a:ext cx="127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00" y="5207040"/>
            <a:ext cx="32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(3.14 × 5 × 5) × 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1320" y="5734080"/>
            <a:ext cx="302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863.5 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864 cm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313848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3300"/>
                </a:solidFill>
                <a:latin typeface="Times New Roman"/>
              </a:rPr>
              <a:t>V = A</a:t>
            </a:r>
            <a:r>
              <a:rPr b="0" lang="en-GB" sz="2600" spc="-1" strike="noStrike" baseline="-25000">
                <a:solidFill>
                  <a:srgbClr val="993300"/>
                </a:solidFill>
                <a:latin typeface="Times New Roman"/>
              </a:rPr>
              <a:t>base</a:t>
            </a:r>
            <a:r>
              <a:rPr b="0" lang="en-GB" sz="2600" spc="-1" strike="noStrike">
                <a:solidFill>
                  <a:srgbClr val="993300"/>
                </a:solidFill>
                <a:latin typeface="Times New Roman"/>
              </a:rPr>
              <a:t> 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359568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3300"/>
                </a:solidFill>
                <a:latin typeface="Times New Roman"/>
              </a:rPr>
              <a:t>V = (b × h ÷ 2) × 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292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3300"/>
                </a:solidFill>
                <a:latin typeface="Times New Roman"/>
              </a:rPr>
              <a:t>V = (8 × 2 ÷ 2) ×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45864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3300"/>
                </a:solidFill>
                <a:latin typeface="Times New Roman"/>
              </a:rPr>
              <a:t>V = 72 m</a:t>
            </a:r>
            <a:r>
              <a:rPr b="0" lang="en-GB" sz="2600" spc="-1" strike="noStrike" baseline="30000">
                <a:solidFill>
                  <a:srgbClr val="993300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46483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Times New Roman"/>
              </a:rPr>
              <a:t>V = 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Times New Roman"/>
              </a:rPr>
              <a:t>base</a:t>
            </a:r>
            <a:r>
              <a:rPr b="0" lang="en-GB" sz="2600" spc="-1" strike="noStrike">
                <a:solidFill>
                  <a:srgbClr val="9900cc"/>
                </a:solidFill>
                <a:latin typeface="Times New Roman"/>
              </a:rPr>
              <a:t> 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5181480"/>
            <a:ext cx="289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Times New Roman"/>
              </a:rPr>
              <a:t>V = 4 ×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00800" y="5607000"/>
            <a:ext cx="289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Times New Roman"/>
              </a:rPr>
              <a:t>V = 28 cm</a:t>
            </a:r>
            <a:r>
              <a:rPr b="0" lang="en-GB" sz="2600" spc="-1" strike="noStrike" baseline="30000">
                <a:solidFill>
                  <a:srgbClr val="9900cc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76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the following Vol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47680" y="419112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A</a:t>
            </a:r>
            <a:r>
              <a:rPr b="0" lang="en-GB" sz="2600" spc="-1" strike="noStrike" baseline="-25000">
                <a:solidFill>
                  <a:srgbClr val="333399"/>
                </a:solidFill>
                <a:latin typeface="Times New Roman"/>
              </a:rPr>
              <a:t>base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7680" y="46623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r 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58160" y="4726080"/>
            <a:ext cx="127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7520" y="5207040"/>
            <a:ext cx="312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(3.14 × 8 × 8) ×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0600" y="5734080"/>
            <a:ext cx="3190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803.84 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804 cm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415908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3300"/>
                </a:solidFill>
                <a:latin typeface="Times New Roman"/>
              </a:rPr>
              <a:t>V = A</a:t>
            </a:r>
            <a:r>
              <a:rPr b="0" lang="en-GB" sz="2600" spc="-1" strike="noStrike" baseline="-25000">
                <a:solidFill>
                  <a:srgbClr val="993300"/>
                </a:solidFill>
                <a:latin typeface="Times New Roman"/>
              </a:rPr>
              <a:t>base</a:t>
            </a:r>
            <a:r>
              <a:rPr b="0" lang="en-GB" sz="2600" spc="-1" strike="noStrike">
                <a:solidFill>
                  <a:srgbClr val="993300"/>
                </a:solidFill>
                <a:latin typeface="Times New Roman"/>
              </a:rPr>
              <a:t> 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461628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3300"/>
                </a:solidFill>
                <a:latin typeface="Times New Roman"/>
              </a:rPr>
              <a:t>V = (b × h ÷ 2) × 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51498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3300"/>
                </a:solidFill>
                <a:latin typeface="Times New Roman"/>
              </a:rPr>
              <a:t>V = (5 × </a:t>
            </a:r>
            <a:r>
              <a:rPr b="1" lang="en-GB" sz="2600" spc="-1" strike="noStrike">
                <a:solidFill>
                  <a:srgbClr val="3333ff"/>
                </a:solidFill>
                <a:latin typeface="Times New Roman"/>
              </a:rPr>
              <a:t>12</a:t>
            </a:r>
            <a:r>
              <a:rPr b="0" lang="en-GB" sz="2600" spc="-1" strike="noStrike">
                <a:solidFill>
                  <a:srgbClr val="993300"/>
                </a:solidFill>
                <a:latin typeface="Times New Roman"/>
              </a:rPr>
              <a:t> ÷ 2) ×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56070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3300"/>
                </a:solidFill>
                <a:latin typeface="Times New Roman"/>
              </a:rPr>
              <a:t>V = 210 m</a:t>
            </a:r>
            <a:r>
              <a:rPr b="0" lang="en-GB" sz="2600" spc="-1" strike="noStrike" baseline="30000">
                <a:solidFill>
                  <a:srgbClr val="993300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61760" y="1066320"/>
            <a:ext cx="2590920" cy="2822400"/>
            <a:chOff x="761760" y="1066320"/>
            <a:chExt cx="2590920" cy="2822400"/>
          </a:xfrm>
        </p:grpSpPr>
        <p:sp>
          <p:nvSpPr>
            <p:cNvPr id="179" name=""/>
            <p:cNvSpPr/>
            <p:nvPr/>
          </p:nvSpPr>
          <p:spPr>
            <a:xfrm>
              <a:off x="1066680" y="34290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4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2120" y="34290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209680" y="106632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86000" y="19051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6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5400000">
              <a:off x="228240" y="1600200"/>
              <a:ext cx="2210040" cy="1143000"/>
            </a:xfrm>
            <a:prstGeom prst="can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943600" y="1371600"/>
            <a:ext cx="2743200" cy="2212200"/>
            <a:chOff x="5943600" y="1371600"/>
            <a:chExt cx="2743200" cy="2212200"/>
          </a:xfrm>
        </p:grpSpPr>
        <p:sp>
          <p:nvSpPr>
            <p:cNvPr id="185" name=""/>
            <p:cNvSpPr/>
            <p:nvPr/>
          </p:nvSpPr>
          <p:spPr>
            <a:xfrm>
              <a:off x="6324480" y="3124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20120" y="27432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7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43600" y="1371600"/>
              <a:ext cx="1295280" cy="1828800"/>
            </a:xfrm>
            <a:prstGeom prst="rtTriangle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943600" y="13716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43600" y="1371600"/>
              <a:ext cx="129528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5943600" y="3200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2971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18288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3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286000" y="76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the following Vol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09480" y="429264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ff"/>
                </a:solidFill>
                <a:latin typeface="Times New Roman"/>
              </a:rPr>
              <a:t>V = </a:t>
            </a:r>
            <a:r>
              <a:rPr b="0" lang="en-GB" sz="2600" spc="-1" strike="noStrike" baseline="30000">
                <a:solidFill>
                  <a:srgbClr val="3333ff"/>
                </a:solidFill>
                <a:latin typeface="Times New Roman"/>
              </a:rPr>
              <a:t>4</a:t>
            </a:r>
            <a:r>
              <a:rPr b="0" lang="en-GB" sz="2600" spc="-1" strike="noStrike">
                <a:solidFill>
                  <a:srgbClr val="3333ff"/>
                </a:solidFill>
                <a:latin typeface="Times New Roman"/>
              </a:rPr>
              <a:t>/</a:t>
            </a:r>
            <a:r>
              <a:rPr b="0" lang="en-GB" sz="2600" spc="-1" strike="noStrike" baseline="-25000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en-GB" sz="2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ff"/>
                </a:solidFill>
                <a:latin typeface="Times New Roman"/>
              </a:rPr>
              <a:t> r</a:t>
            </a:r>
            <a:r>
              <a:rPr b="0" lang="en-GB" sz="2600" spc="-1" strike="noStrike" baseline="30000">
                <a:solidFill>
                  <a:srgbClr val="3333ff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4921200"/>
            <a:ext cx="36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ff"/>
                </a:solidFill>
                <a:latin typeface="Times New Roman"/>
              </a:rPr>
              <a:t>V = 4</a:t>
            </a:r>
            <a:r>
              <a:rPr b="0" lang="en-GB" sz="2600" spc="-1" strike="noStrike">
                <a:solidFill>
                  <a:srgbClr val="3333ff"/>
                </a:solidFill>
                <a:latin typeface="Symbol"/>
                <a:ea typeface="Symbol"/>
              </a:rPr>
              <a:t></a:t>
            </a:r>
            <a:r>
              <a:rPr b="0" lang="en-GB" sz="2600" spc="-1" strike="noStrike">
                <a:solidFill>
                  <a:srgbClr val="3333ff"/>
                </a:solidFill>
                <a:latin typeface="Times New Roman"/>
              </a:rPr>
              <a:t>3×</a:t>
            </a:r>
            <a:r>
              <a:rPr b="0" lang="en-GB" sz="26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ff"/>
                </a:solidFill>
                <a:latin typeface="Times New Roman"/>
              </a:rPr>
              <a:t>×1700</a:t>
            </a:r>
            <a:r>
              <a:rPr b="0" lang="en-GB" sz="2600" spc="-1" strike="noStrike" baseline="30000">
                <a:solidFill>
                  <a:srgbClr val="3333ff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0640" y="5492880"/>
            <a:ext cx="222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ff"/>
                </a:solidFill>
                <a:latin typeface="Times New Roman"/>
              </a:rPr>
              <a:t>V = 2.06 × 10</a:t>
            </a:r>
            <a:r>
              <a:rPr b="0" lang="en-GB" sz="2600" spc="-1" strike="noStrike" baseline="30000">
                <a:solidFill>
                  <a:srgbClr val="3333ff"/>
                </a:solidFill>
                <a:latin typeface="Times New Roman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10440" y="396252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GB" sz="2600" spc="-1" strike="noStrike" baseline="-25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r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600" spc="-1" strike="noStrike" u="sng">
                <a:solidFill>
                  <a:srgbClr val="333399"/>
                </a:solidFill>
                <a:uFillTx/>
                <a:latin typeface="Times New Roman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86400" y="4419720"/>
            <a:ext cx="335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h = 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(13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- 5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657840" y="1143000"/>
            <a:ext cx="2666880" cy="2822040"/>
            <a:chOff x="6657840" y="1143000"/>
            <a:chExt cx="2666880" cy="2822040"/>
          </a:xfrm>
        </p:grpSpPr>
        <p:sp>
          <p:nvSpPr>
            <p:cNvPr id="200" name=""/>
            <p:cNvSpPr/>
            <p:nvPr/>
          </p:nvSpPr>
          <p:spPr>
            <a:xfrm>
              <a:off x="6657840" y="350532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67320" y="35053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05760" y="17524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3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34160" y="2895480"/>
              <a:ext cx="1828800" cy="3049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734160" y="1143000"/>
              <a:ext cx="914400" cy="19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7648560" y="1143000"/>
              <a:ext cx="914400" cy="19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50920" y="990720"/>
            <a:ext cx="2666520" cy="2974320"/>
            <a:chOff x="250920" y="990720"/>
            <a:chExt cx="2666520" cy="2974320"/>
          </a:xfrm>
        </p:grpSpPr>
        <p:sp>
          <p:nvSpPr>
            <p:cNvPr id="207" name=""/>
            <p:cNvSpPr/>
            <p:nvPr/>
          </p:nvSpPr>
          <p:spPr>
            <a:xfrm>
              <a:off x="250920" y="3505320"/>
              <a:ext cx="251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0400" y="350532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400k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347400" y="990720"/>
              <a:ext cx="226512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"/>
          <p:cNvSpPr/>
          <p:nvPr/>
        </p:nvSpPr>
        <p:spPr>
          <a:xfrm>
            <a:off x="6386400" y="4844880"/>
            <a:ext cx="335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h = 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86400" y="5334120"/>
            <a:ext cx="36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1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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3×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×5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×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86400" y="5759280"/>
            <a:ext cx="36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314 cm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76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the following Vol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708360" y="980640"/>
            <a:ext cx="2016000" cy="2692080"/>
            <a:chOff x="3708360" y="980640"/>
            <a:chExt cx="2016000" cy="2692080"/>
          </a:xfrm>
        </p:grpSpPr>
        <p:sp>
          <p:nvSpPr>
            <p:cNvPr id="215" name=""/>
            <p:cNvSpPr/>
            <p:nvPr/>
          </p:nvSpPr>
          <p:spPr>
            <a:xfrm>
              <a:off x="3708360" y="2924280"/>
              <a:ext cx="1800360" cy="3603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572000" y="980640"/>
              <a:ext cx="0" cy="2087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708360" y="980640"/>
              <a:ext cx="86364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0" y="981000"/>
              <a:ext cx="93672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306864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16360" y="32130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67280" y="19638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386160" y="3948120"/>
            <a:ext cx="226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62400" y="4508640"/>
            <a:ext cx="36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1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3×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×6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×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19640" y="5084640"/>
            <a:ext cx="36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528 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tension - Calculate the Volume of this hollow 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04920" y="2438280"/>
            <a:ext cx="5029200" cy="2286000"/>
            <a:chOff x="304920" y="2438280"/>
            <a:chExt cx="5029200" cy="2286000"/>
          </a:xfrm>
        </p:grpSpPr>
        <p:grpSp>
          <p:nvGrpSpPr>
            <p:cNvPr id="227" name=""/>
            <p:cNvGrpSpPr/>
            <p:nvPr/>
          </p:nvGrpSpPr>
          <p:grpSpPr>
            <a:xfrm>
              <a:off x="1219320" y="2438280"/>
              <a:ext cx="2286000" cy="2286000"/>
              <a:chOff x="1219320" y="2438280"/>
              <a:chExt cx="2286000" cy="2286000"/>
            </a:xfrm>
          </p:grpSpPr>
          <p:sp>
            <p:nvSpPr>
              <p:cNvPr id="228" name=""/>
              <p:cNvSpPr/>
              <p:nvPr/>
            </p:nvSpPr>
            <p:spPr>
              <a:xfrm>
                <a:off x="1219320" y="2438280"/>
                <a:ext cx="2286000" cy="228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76520" y="2971800"/>
                <a:ext cx="1371600" cy="1295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3840120" y="3978000"/>
              <a:ext cx="14940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5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276720" y="3580920"/>
              <a:ext cx="106668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362320" y="297180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1143000" y="243828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4920" y="327636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7496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8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048280" y="185436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A</a:t>
            </a:r>
            <a:r>
              <a:rPr b="0" lang="en-GB" sz="2600" spc="-1" strike="noStrike" baseline="-25000">
                <a:solidFill>
                  <a:srgbClr val="333399"/>
                </a:solidFill>
                <a:latin typeface="Times New Roman"/>
              </a:rPr>
              <a:t>base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48280" y="2406600"/>
            <a:ext cx="236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R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- 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23680" y="2438280"/>
            <a:ext cx="127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26680" y="2940120"/>
            <a:ext cx="363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(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×5×5- 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×4×4) × 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48280" y="3473280"/>
            <a:ext cx="318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(25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-16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) × 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48280" y="4006800"/>
            <a:ext cx="318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9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× 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48280" y="4540320"/>
            <a:ext cx="318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V = 135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n-GB" sz="2600" spc="-1" strike="noStrike">
                <a:solidFill>
                  <a:srgbClr val="333399"/>
                </a:solidFill>
                <a:latin typeface="Times New Roman"/>
              </a:rPr>
              <a:t> 424cm</a:t>
            </a:r>
            <a:r>
              <a:rPr b="0" lang="en-GB" sz="26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nd the height of the second cylinder given tha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have equal volum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143000" y="1066680"/>
            <a:ext cx="7620120" cy="2974320"/>
            <a:chOff x="1143000" y="1066680"/>
            <a:chExt cx="7620120" cy="2974320"/>
          </a:xfrm>
        </p:grpSpPr>
        <p:sp>
          <p:nvSpPr>
            <p:cNvPr id="245" name=""/>
            <p:cNvSpPr/>
            <p:nvPr/>
          </p:nvSpPr>
          <p:spPr>
            <a:xfrm>
              <a:off x="1143000" y="1752480"/>
              <a:ext cx="2133720" cy="1600200"/>
            </a:xfrm>
            <a:prstGeom prst="can">
              <a:avLst>
                <a:gd name="adj" fmla="val 25000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3600" y="1066680"/>
              <a:ext cx="1523880" cy="24382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43000" y="358128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43600" y="35812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52480" y="35812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2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76720" y="22860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5812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8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43800" y="20574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609480" y="429264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A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476424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019960" y="4827600"/>
            <a:ext cx="127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0400" y="5302080"/>
            <a:ext cx="272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(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× 6 × 6) ×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2040" y="5835600"/>
            <a:ext cx="343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565.48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565.5 c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403848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A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4572000"/>
            <a:ext cx="3886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× 4 × 4 × h = 565.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5470560" y="4952880"/>
                <a:ext cx="17841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5410080" y="5791320"/>
            <a:ext cx="206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11.3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nd the diameter of the second cylinder given tha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have equal volum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143000" y="990720"/>
            <a:ext cx="7620120" cy="2974320"/>
            <a:chOff x="1143000" y="990720"/>
            <a:chExt cx="7620120" cy="2974320"/>
          </a:xfrm>
        </p:grpSpPr>
        <p:sp>
          <p:nvSpPr>
            <p:cNvPr id="264" name=""/>
            <p:cNvSpPr/>
            <p:nvPr/>
          </p:nvSpPr>
          <p:spPr>
            <a:xfrm>
              <a:off x="1143000" y="1524240"/>
              <a:ext cx="1905120" cy="1752480"/>
            </a:xfrm>
            <a:prstGeom prst="can">
              <a:avLst>
                <a:gd name="adj" fmla="val 25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43600" y="990720"/>
              <a:ext cx="1523880" cy="2438640"/>
            </a:xfrm>
            <a:prstGeom prst="can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43000" y="350532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43600" y="350532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52480" y="35053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76720" y="221004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6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00800" y="35053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43800" y="19814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1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09480" y="429264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A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476424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19960" y="4827600"/>
            <a:ext cx="127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0400" y="5302080"/>
            <a:ext cx="272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(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× 5 × 5) ×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040" y="5835600"/>
            <a:ext cx="343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471.24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471.2 cm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396252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 = A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× h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441972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× r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× 11 = 471.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486400" y="4876920"/>
                <a:ext cx="15238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5257800" y="5638680"/>
            <a:ext cx="373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r =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13.635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3.7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606420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d = 7.4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2:59:12Z</dcterms:created>
  <dc:creator/>
  <dc:description/>
  <dc:language>en-US</dc:language>
  <cp:lastModifiedBy/>
  <dcterms:modified xsi:type="dcterms:W3CDTF">2007-02-27T12:50:31Z</dcterms:modified>
  <cp:revision>19</cp:revision>
  <dc:subject/>
  <dc:title>Areas and Volumes</dc:title>
</cp:coreProperties>
</file>